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png" ContentType="image/png"/>
  <Override PartName="/ppt/media/image7.wmf" ContentType="image/x-wmf"/>
  <Override PartName="/ppt/media/image8.gif" ContentType="image/gif"/>
  <Override PartName="/ppt/media/image9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E29653C-6C4B-4EB7-9627-2DCFB678DD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B999D8-A8C3-417C-809E-F2BBCAA44A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06480" y="700200"/>
            <a:ext cx="5045040" cy="3492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5840" y="4422600"/>
            <a:ext cx="5026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AC2E94-7393-40DE-AAAC-E8587D9DD7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6480" y="700200"/>
            <a:ext cx="5045040" cy="3492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5840" y="4422600"/>
            <a:ext cx="5026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D97171-57F3-4A05-933C-71BD11DDB2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7920" y="700200"/>
            <a:ext cx="5045040" cy="3492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5840" y="4422600"/>
            <a:ext cx="5026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949C2BF-7ACC-4674-A749-9640FBE787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7920" y="698400"/>
            <a:ext cx="5046840" cy="34941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06A8D3A-4CDC-416D-BD75-CE900CD18A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7920" y="698400"/>
            <a:ext cx="5046840" cy="3494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032C62-CB4B-4A31-8105-8F9458470B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895FEFD-C0D9-4922-9DDA-D5259D30E1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96BFE98-7DBD-4CA8-9793-09E650DC76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75"/>
          <p:cNvSpPr/>
          <p:nvPr/>
        </p:nvSpPr>
        <p:spPr>
          <a:xfrm>
            <a:off x="488880" y="6507000"/>
            <a:ext cx="62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pyrights SELL Consulting – 2016-2027. Pas de reproduction sans auto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3080"/>
          <p:cNvSpPr/>
          <p:nvPr/>
        </p:nvSpPr>
        <p:spPr>
          <a:xfrm>
            <a:off x="179280" y="6218280"/>
            <a:ext cx="432000" cy="3348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081"/>
          <p:cNvSpPr/>
          <p:nvPr/>
        </p:nvSpPr>
        <p:spPr>
          <a:xfrm>
            <a:off x="395280" y="6203880"/>
            <a:ext cx="9129600" cy="349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Oval 3082"/>
          <p:cNvSpPr/>
          <p:nvPr/>
        </p:nvSpPr>
        <p:spPr>
          <a:xfrm>
            <a:off x="9321840" y="6218280"/>
            <a:ext cx="431640" cy="3348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4"/>
          <p:cNvSpPr/>
          <p:nvPr/>
        </p:nvSpPr>
        <p:spPr>
          <a:xfrm>
            <a:off x="2781360" y="2754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50"/>
          <p:cNvGrpSpPr/>
          <p:nvPr/>
        </p:nvGrpSpPr>
        <p:grpSpPr>
          <a:xfrm>
            <a:off x="4038480" y="222120"/>
            <a:ext cx="5867280" cy="792360"/>
            <a:chOff x="4038480" y="222120"/>
            <a:chExt cx="5867280" cy="792360"/>
          </a:xfrm>
        </p:grpSpPr>
        <p:sp>
          <p:nvSpPr>
            <p:cNvPr id="49" name="Rectangle 51"/>
            <p:cNvSpPr/>
            <p:nvPr/>
          </p:nvSpPr>
          <p:spPr>
            <a:xfrm rot="10800000">
              <a:off x="4456080" y="259920"/>
              <a:ext cx="544968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Group 52"/>
            <p:cNvGrpSpPr/>
            <p:nvPr/>
          </p:nvGrpSpPr>
          <p:grpSpPr>
            <a:xfrm>
              <a:off x="4038480" y="222120"/>
              <a:ext cx="5830920" cy="792360"/>
              <a:chOff x="4038480" y="222120"/>
              <a:chExt cx="5830920" cy="792360"/>
            </a:xfrm>
          </p:grpSpPr>
          <p:sp>
            <p:nvSpPr>
              <p:cNvPr id="51" name="Oval 53"/>
              <p:cNvSpPr/>
              <p:nvPr/>
            </p:nvSpPr>
            <p:spPr>
              <a:xfrm rot="10800000">
                <a:off x="4038480" y="261360"/>
                <a:ext cx="85824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4216320" y="222120"/>
                <a:ext cx="56530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Arial"/>
                  </a:rPr>
                  <a:t>Agend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Rectangle 13"/>
          <p:cNvSpPr/>
          <p:nvPr/>
        </p:nvSpPr>
        <p:spPr>
          <a:xfrm>
            <a:off x="662040" y="13730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r d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560520" y="2637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énéfices propo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560520" y="321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tre déma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560520" y="1844640"/>
            <a:ext cx="689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réhension contexte : situation actuelle, besoins, enjeux visés par 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569880" y="41241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Proposition financièr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560520" y="4508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sumé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s points fort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569880" y="5084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569880" y="55641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chaines étap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569880" y="3692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férenc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82680" y="6081840"/>
            <a:ext cx="90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Vos outils pour prospe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052640" y="1754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sur l’ensemble des étapes clés de 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4280" y="3986280"/>
            <a:ext cx="79880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cénario prise de RDV, questions découverte, réponses objections courantes, scénarios de bouclage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uide complet de conseils pratiques (150 p.) base des échanges. Mises en situation comportement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D : outils, accompagnement sur premières réalis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agnostic et recommandations de vos réalis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04920" y="1052640"/>
            <a:ext cx="96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Arial"/>
              </a:rPr>
              <a:t>Formation commerciale personnalisée, coaching et diagnostic-recommandations sur vos outils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Arial"/>
              </a:rPr>
              <a:t>de prospection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676520" y="355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xemple d’outils réalis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2437920" y="228600"/>
            <a:ext cx="7461000" cy="792000"/>
            <a:chOff x="2437920" y="228600"/>
            <a:chExt cx="7461000" cy="792000"/>
          </a:xfrm>
        </p:grpSpPr>
        <p:sp>
          <p:nvSpPr>
            <p:cNvPr id="165" name="Rectangle 10"/>
            <p:cNvSpPr/>
            <p:nvPr/>
          </p:nvSpPr>
          <p:spPr>
            <a:xfrm rot="10800000">
              <a:off x="2969280" y="265680"/>
              <a:ext cx="692964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11"/>
            <p:cNvGrpSpPr/>
            <p:nvPr/>
          </p:nvGrpSpPr>
          <p:grpSpPr>
            <a:xfrm>
              <a:off x="2437920" y="228600"/>
              <a:ext cx="7415280" cy="792000"/>
              <a:chOff x="2437920" y="228600"/>
              <a:chExt cx="7415280" cy="792000"/>
            </a:xfrm>
          </p:grpSpPr>
          <p:sp>
            <p:nvSpPr>
              <p:cNvPr id="167" name="Oval 12"/>
              <p:cNvSpPr/>
              <p:nvPr/>
            </p:nvSpPr>
            <p:spPr>
              <a:xfrm rot="10800000">
                <a:off x="2437920" y="267840"/>
                <a:ext cx="109116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2664720" y="228600"/>
                <a:ext cx="71884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600" spc="-1" strike="noStrike">
                    <a:solidFill>
                      <a:srgbClr val="ffcc00"/>
                    </a:solidFill>
                    <a:latin typeface="Times New Roman"/>
                    <a:ea typeface="Times New Roman"/>
                  </a:rPr>
                  <a:t>Kit commercia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Rectangle 14"/>
          <p:cNvSpPr/>
          <p:nvPr/>
        </p:nvSpPr>
        <p:spPr>
          <a:xfrm>
            <a:off x="4133880" y="2567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7832880" y="2652840"/>
            <a:ext cx="16794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7"/>
          <p:cNvSpPr/>
          <p:nvPr/>
        </p:nvSpPr>
        <p:spPr>
          <a:xfrm>
            <a:off x="507960" y="2403360"/>
            <a:ext cx="1305000" cy="99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ib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1676520" y="2187720"/>
            <a:ext cx="1403280" cy="996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9"/>
          <p:cNvSpPr/>
          <p:nvPr/>
        </p:nvSpPr>
        <p:spPr>
          <a:xfrm>
            <a:off x="2925720" y="2475000"/>
            <a:ext cx="1333440" cy="996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naî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20"/>
          <p:cNvSpPr/>
          <p:nvPr/>
        </p:nvSpPr>
        <p:spPr>
          <a:xfrm>
            <a:off x="4094280" y="2259000"/>
            <a:ext cx="1417680" cy="960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ainc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21"/>
          <p:cNvSpPr/>
          <p:nvPr/>
        </p:nvSpPr>
        <p:spPr>
          <a:xfrm>
            <a:off x="5421240" y="2475000"/>
            <a:ext cx="1479600" cy="981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ou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7918560" y="2546280"/>
            <a:ext cx="1325520" cy="99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pitali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6826320" y="2259000"/>
            <a:ext cx="1173240" cy="996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l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7832880" y="5300640"/>
            <a:ext cx="171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Pr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5000 € 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639800" y="2924280"/>
            <a:ext cx="75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ragmatiques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nsultants chef de TP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8600" y="1447920"/>
            <a:ext cx="77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ugmentation du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 la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arg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et de la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vitess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219320" y="2276640"/>
            <a:ext cx="77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xpertis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mmercia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arketing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: plus de 2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6"/>
          <p:cNvGrpSpPr/>
          <p:nvPr/>
        </p:nvGrpSpPr>
        <p:grpSpPr>
          <a:xfrm>
            <a:off x="2437920" y="380880"/>
            <a:ext cx="7461000" cy="792360"/>
            <a:chOff x="2437920" y="380880"/>
            <a:chExt cx="7461000" cy="792360"/>
          </a:xfrm>
        </p:grpSpPr>
        <p:sp>
          <p:nvSpPr>
            <p:cNvPr id="183" name="Rectangle 7"/>
            <p:cNvSpPr/>
            <p:nvPr/>
          </p:nvSpPr>
          <p:spPr>
            <a:xfrm rot="10800000">
              <a:off x="2969280" y="418680"/>
              <a:ext cx="6929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8"/>
            <p:cNvGrpSpPr/>
            <p:nvPr/>
          </p:nvGrpSpPr>
          <p:grpSpPr>
            <a:xfrm>
              <a:off x="2437920" y="380880"/>
              <a:ext cx="7415280" cy="792360"/>
              <a:chOff x="2437920" y="380880"/>
              <a:chExt cx="7415280" cy="792360"/>
            </a:xfrm>
          </p:grpSpPr>
          <p:sp>
            <p:nvSpPr>
              <p:cNvPr id="185" name="Oval 9"/>
              <p:cNvSpPr/>
              <p:nvPr/>
            </p:nvSpPr>
            <p:spPr>
              <a:xfrm rot="10800000">
                <a:off x="2437920" y="420120"/>
                <a:ext cx="109116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0"/>
              <p:cNvSpPr/>
              <p:nvPr/>
            </p:nvSpPr>
            <p:spPr>
              <a:xfrm>
                <a:off x="2664720" y="380880"/>
                <a:ext cx="71884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Pourquoi SELL Consulting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Rectangle 11"/>
          <p:cNvSpPr/>
          <p:nvPr/>
        </p:nvSpPr>
        <p:spPr>
          <a:xfrm>
            <a:off x="2616120" y="5105520"/>
            <a:ext cx="70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apides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oins de 4 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2590920" y="5638680"/>
            <a:ext cx="70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économique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ub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289240" y="3573360"/>
            <a:ext cx="73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éthodes en ruptur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: conseils personna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2505240" y="43657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nsultants ESHEC + autres 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questions"/>
          <p:cNvPicPr/>
          <p:nvPr/>
        </p:nvPicPr>
        <p:blipFill>
          <a:blip r:embed="rId1"/>
          <a:stretch/>
        </p:blipFill>
        <p:spPr>
          <a:xfrm>
            <a:off x="4343400" y="3086280"/>
            <a:ext cx="743040" cy="79992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3"/>
          <p:cNvGrpSpPr/>
          <p:nvPr/>
        </p:nvGrpSpPr>
        <p:grpSpPr>
          <a:xfrm>
            <a:off x="2437920" y="380880"/>
            <a:ext cx="7461000" cy="792360"/>
            <a:chOff x="2437920" y="380880"/>
            <a:chExt cx="7461000" cy="792360"/>
          </a:xfrm>
        </p:grpSpPr>
        <p:sp>
          <p:nvSpPr>
            <p:cNvPr id="193" name="Rectangle 4"/>
            <p:cNvSpPr/>
            <p:nvPr/>
          </p:nvSpPr>
          <p:spPr>
            <a:xfrm rot="10800000">
              <a:off x="2969280" y="418680"/>
              <a:ext cx="6929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"/>
            <p:cNvGrpSpPr/>
            <p:nvPr/>
          </p:nvGrpSpPr>
          <p:grpSpPr>
            <a:xfrm>
              <a:off x="2437920" y="380880"/>
              <a:ext cx="7415280" cy="792360"/>
              <a:chOff x="2437920" y="380880"/>
              <a:chExt cx="7415280" cy="792360"/>
            </a:xfrm>
          </p:grpSpPr>
          <p:sp>
            <p:nvSpPr>
              <p:cNvPr id="195" name="Oval 6"/>
              <p:cNvSpPr/>
              <p:nvPr/>
            </p:nvSpPr>
            <p:spPr>
              <a:xfrm rot="10800000">
                <a:off x="2437920" y="420120"/>
                <a:ext cx="109116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>
                <a:off x="2664720" y="380880"/>
                <a:ext cx="71884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Échange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137040" y="1649520"/>
            <a:ext cx="5200560" cy="34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ntact@optisell.c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www.optis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él. : 01 46 89 07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, rue Benoît-Malon - 92310 Sèvres.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" descr="mail1[1]"/>
          <p:cNvPicPr/>
          <p:nvPr/>
        </p:nvPicPr>
        <p:blipFill>
          <a:blip r:embed="rId1"/>
          <a:stretch/>
        </p:blipFill>
        <p:spPr>
          <a:xfrm>
            <a:off x="2147760" y="1981080"/>
            <a:ext cx="51912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téléphone fixe"/>
          <p:cNvPicPr/>
          <p:nvPr/>
        </p:nvPicPr>
        <p:blipFill>
          <a:blip r:embed="rId2"/>
          <a:stretch/>
        </p:blipFill>
        <p:spPr>
          <a:xfrm>
            <a:off x="2209680" y="3276720"/>
            <a:ext cx="577800" cy="533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téléphone portable"/>
          <p:cNvPicPr/>
          <p:nvPr/>
        </p:nvPicPr>
        <p:blipFill>
          <a:blip r:embed="rId3"/>
          <a:stretch/>
        </p:blipFill>
        <p:spPr>
          <a:xfrm>
            <a:off x="2286000" y="4495680"/>
            <a:ext cx="466560" cy="5716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6"/>
          <p:cNvGrpSpPr/>
          <p:nvPr/>
        </p:nvGrpSpPr>
        <p:grpSpPr>
          <a:xfrm>
            <a:off x="2437920" y="380880"/>
            <a:ext cx="7461000" cy="792360"/>
            <a:chOff x="2437920" y="380880"/>
            <a:chExt cx="7461000" cy="792360"/>
          </a:xfrm>
        </p:grpSpPr>
        <p:sp>
          <p:nvSpPr>
            <p:cNvPr id="202" name="Rectangle 7"/>
            <p:cNvSpPr/>
            <p:nvPr/>
          </p:nvSpPr>
          <p:spPr>
            <a:xfrm rot="10800000">
              <a:off x="2969280" y="418680"/>
              <a:ext cx="6929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Group 8"/>
            <p:cNvGrpSpPr/>
            <p:nvPr/>
          </p:nvGrpSpPr>
          <p:grpSpPr>
            <a:xfrm>
              <a:off x="2437920" y="380880"/>
              <a:ext cx="7415280" cy="792360"/>
              <a:chOff x="2437920" y="380880"/>
              <a:chExt cx="7415280" cy="792360"/>
            </a:xfrm>
          </p:grpSpPr>
          <p:sp>
            <p:nvSpPr>
              <p:cNvPr id="204" name="Oval 9"/>
              <p:cNvSpPr/>
              <p:nvPr/>
            </p:nvSpPr>
            <p:spPr>
              <a:xfrm rot="10800000">
                <a:off x="2437920" y="420120"/>
                <a:ext cx="109116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10"/>
              <p:cNvSpPr/>
              <p:nvPr/>
            </p:nvSpPr>
            <p:spPr>
              <a:xfrm>
                <a:off x="2664720" y="380880"/>
                <a:ext cx="71884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Contact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52280" y="1219320"/>
            <a:ext cx="944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érience commerciale et marketing de terrain &gt; 2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ions de haut niveau – Exemple de consul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272120" y="3205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272120" y="3219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62276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2584440" y="228600"/>
            <a:ext cx="7314840" cy="792000"/>
            <a:chOff x="2584440" y="228600"/>
            <a:chExt cx="7314840" cy="792000"/>
          </a:xfrm>
        </p:grpSpPr>
        <p:sp>
          <p:nvSpPr>
            <p:cNvPr id="67" name="Rectangle 7"/>
            <p:cNvSpPr/>
            <p:nvPr/>
          </p:nvSpPr>
          <p:spPr>
            <a:xfrm rot="10800000">
              <a:off x="3105360" y="265680"/>
              <a:ext cx="679392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Group 8"/>
            <p:cNvGrpSpPr/>
            <p:nvPr/>
          </p:nvGrpSpPr>
          <p:grpSpPr>
            <a:xfrm>
              <a:off x="2584440" y="228600"/>
              <a:ext cx="7269480" cy="792000"/>
              <a:chOff x="2584440" y="228600"/>
              <a:chExt cx="7269480" cy="792000"/>
            </a:xfrm>
          </p:grpSpPr>
          <p:sp>
            <p:nvSpPr>
              <p:cNvPr id="69" name="Oval 9"/>
              <p:cNvSpPr/>
              <p:nvPr/>
            </p:nvSpPr>
            <p:spPr>
              <a:xfrm rot="10800000">
                <a:off x="2584440" y="267840"/>
                <a:ext cx="106992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Rectangle 10"/>
              <p:cNvSpPr/>
              <p:nvPr/>
            </p:nvSpPr>
            <p:spPr>
              <a:xfrm>
                <a:off x="2806560" y="228600"/>
                <a:ext cx="704736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Consultants coach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Rectangle 11"/>
          <p:cNvSpPr/>
          <p:nvPr/>
        </p:nvSpPr>
        <p:spPr>
          <a:xfrm>
            <a:off x="4519440" y="2862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photo thierry"/>
          <p:cNvPicPr/>
          <p:nvPr/>
        </p:nvPicPr>
        <p:blipFill>
          <a:blip r:embed="rId1"/>
          <a:stretch/>
        </p:blipFill>
        <p:spPr>
          <a:xfrm>
            <a:off x="3900600" y="3657600"/>
            <a:ext cx="1052280" cy="1219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3368520" y="3124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ierre Con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3334320" y="5181480"/>
            <a:ext cx="209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le de commerce ESH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génieur ENS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272120" y="3205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272120" y="3219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62276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2584440" y="228600"/>
            <a:ext cx="7314840" cy="792000"/>
            <a:chOff x="2584440" y="228600"/>
            <a:chExt cx="7314840" cy="792000"/>
          </a:xfrm>
        </p:grpSpPr>
        <p:sp>
          <p:nvSpPr>
            <p:cNvPr id="79" name="Rectangle 6"/>
            <p:cNvSpPr/>
            <p:nvPr/>
          </p:nvSpPr>
          <p:spPr>
            <a:xfrm rot="10800000">
              <a:off x="3105360" y="265680"/>
              <a:ext cx="679392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7"/>
            <p:cNvGrpSpPr/>
            <p:nvPr/>
          </p:nvGrpSpPr>
          <p:grpSpPr>
            <a:xfrm>
              <a:off x="2584440" y="228600"/>
              <a:ext cx="7269480" cy="792000"/>
              <a:chOff x="2584440" y="228600"/>
              <a:chExt cx="7269480" cy="792000"/>
            </a:xfrm>
          </p:grpSpPr>
          <p:sp>
            <p:nvSpPr>
              <p:cNvPr id="81" name="Oval 8"/>
              <p:cNvSpPr/>
              <p:nvPr/>
            </p:nvSpPr>
            <p:spPr>
              <a:xfrm rot="10800000">
                <a:off x="2584440" y="267840"/>
                <a:ext cx="106992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9"/>
              <p:cNvSpPr/>
              <p:nvPr/>
            </p:nvSpPr>
            <p:spPr>
              <a:xfrm>
                <a:off x="2806560" y="228600"/>
                <a:ext cx="704736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Des publication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10"/>
          <p:cNvSpPr/>
          <p:nvPr/>
        </p:nvSpPr>
        <p:spPr>
          <a:xfrm>
            <a:off x="4519440" y="2862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44520" y="13413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ierre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920880" y="2349360"/>
            <a:ext cx="7416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rnières publications revue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Déjouez les pièges des acheteurs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Préparez vos appels d’offre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Partenariats à l’export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Campagnes e-mailing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6/2006, 01/2014, 09 et 10/201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4270320" y="2868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270320" y="2868480"/>
            <a:ext cx="588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4270320" y="2868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1857240" y="1395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tés plus de 30 fois en presse profess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2342880" y="6172200"/>
            <a:ext cx="52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Publications sur www.Optis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457880" y="30672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276360" y="228600"/>
            <a:ext cx="6622920" cy="792000"/>
            <a:chOff x="3276360" y="228600"/>
            <a:chExt cx="6622920" cy="792000"/>
          </a:xfrm>
        </p:grpSpPr>
        <p:sp>
          <p:nvSpPr>
            <p:cNvPr id="93" name="Rectangle 4"/>
            <p:cNvSpPr/>
            <p:nvPr/>
          </p:nvSpPr>
          <p:spPr>
            <a:xfrm rot="10800000">
              <a:off x="3748320" y="265680"/>
              <a:ext cx="615096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3276360" y="228600"/>
              <a:ext cx="6581880" cy="792000"/>
              <a:chOff x="3276360" y="228600"/>
              <a:chExt cx="6581880" cy="792000"/>
            </a:xfrm>
          </p:grpSpPr>
          <p:sp>
            <p:nvSpPr>
              <p:cNvPr id="95" name="Oval 6"/>
              <p:cNvSpPr/>
              <p:nvPr/>
            </p:nvSpPr>
            <p:spPr>
              <a:xfrm rot="10800000">
                <a:off x="3276360" y="267840"/>
                <a:ext cx="96876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7"/>
              <p:cNvSpPr/>
              <p:nvPr/>
            </p:nvSpPr>
            <p:spPr>
              <a:xfrm>
                <a:off x="3477600" y="228600"/>
                <a:ext cx="638064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Quelques référence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Text Box 8"/>
          <p:cNvSpPr/>
          <p:nvPr/>
        </p:nvSpPr>
        <p:spPr>
          <a:xfrm>
            <a:off x="200160" y="4508640"/>
            <a:ext cx="9432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FAZ . ALKAME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ANREL’s Hotel . ASSURANCE MANAGEMER . AUDIMA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MAUSCH &amp; TOM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CDL 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ARROV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DATAPLONS . DREAM SOLUTIONN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EUROPSCRIP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ESHEC – ERICKIA - Franck TELE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FRANE . FONKLO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GEFCL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GBBB . GICRA . GOTO !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HOTEL MALAC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IBRI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IFER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INCORMA CONSULT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INVESTIGATION ECON. &amp; FINANCE . INT . LE PALAIS . LOGIN SYSTEMS . LNSM . MAKO MARKET . MITECH . NEW OUTDOR . NURI SOLUTION . NOVATEL . OPEUN FERM . ONE N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PEUGRO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SAVA HOTEL .  SCOUARE STRATEG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. </a:t>
            </a: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SCODA . BNS-UPCA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VIGILAN – WEBTIQUE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1208160" y="2133720"/>
            <a:ext cx="2643120" cy="1666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"/>
          <p:cNvSpPr/>
          <p:nvPr/>
        </p:nvSpPr>
        <p:spPr>
          <a:xfrm>
            <a:off x="2706840" y="617220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Plusieurs centaines de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6537240" y="2133720"/>
            <a:ext cx="245448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4457880" y="30672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2362320" y="228600"/>
            <a:ext cx="7536600" cy="792000"/>
            <a:chOff x="2362320" y="228600"/>
            <a:chExt cx="7536600" cy="792000"/>
          </a:xfrm>
        </p:grpSpPr>
        <p:sp>
          <p:nvSpPr>
            <p:cNvPr id="103" name="Rectangle 6"/>
            <p:cNvSpPr/>
            <p:nvPr/>
          </p:nvSpPr>
          <p:spPr>
            <a:xfrm rot="10800000">
              <a:off x="2898720" y="265680"/>
              <a:ext cx="700020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Group 7"/>
            <p:cNvGrpSpPr/>
            <p:nvPr/>
          </p:nvGrpSpPr>
          <p:grpSpPr>
            <a:xfrm>
              <a:off x="2362320" y="228600"/>
              <a:ext cx="7489800" cy="792000"/>
              <a:chOff x="2362320" y="228600"/>
              <a:chExt cx="7489800" cy="792000"/>
            </a:xfrm>
          </p:grpSpPr>
          <p:sp>
            <p:nvSpPr>
              <p:cNvPr id="105" name="Oval 8"/>
              <p:cNvSpPr/>
              <p:nvPr/>
            </p:nvSpPr>
            <p:spPr>
              <a:xfrm rot="10800000">
                <a:off x="2362320" y="267840"/>
                <a:ext cx="110232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2590920" y="228600"/>
                <a:ext cx="72612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  <a:ea typeface="Times New Roman"/>
                  </a:rPr>
                  <a:t>Quelques partenaire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Rectangle 17"/>
          <p:cNvSpPr/>
          <p:nvPr/>
        </p:nvSpPr>
        <p:spPr>
          <a:xfrm>
            <a:off x="2209680" y="28195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52280" y="17683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7543800" y="220968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els d’offre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267080" y="1828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Marketing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280" y="457200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Vendre sur le web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2133720" y="38098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Marketing – Managemen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7467480" y="420696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Marketing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2774880" y="617220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Une reconnaissance d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4724280" y="441972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culturel – Techniqu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els d’offre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Montage partenari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344520" y="20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mplif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649600" y="22734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esgo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737240" y="2133720"/>
            <a:ext cx="23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ha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7689960" y="119700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endeurs d’él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7689960" y="4653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egoci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4881600" y="5229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-Tes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432160" y="4365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-L-Sa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272880" y="5084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éSSe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72880" y="1143000"/>
            <a:ext cx="938556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arché vis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ureaux d’étude de l’industrie, tels que BTP, architecture, mécanique, électricité, transport, nucléair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9"/>
          <p:cNvSpPr/>
          <p:nvPr/>
        </p:nvSpPr>
        <p:spPr>
          <a:xfrm>
            <a:off x="344520" y="2286000"/>
            <a:ext cx="9326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Vos offr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urniture de solutions CA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it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Revente de solution d’éditeurs Autodesk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e l’ordre de 2/3 du 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21"/>
          <p:cNvSpPr/>
          <p:nvPr/>
        </p:nvSpPr>
        <p:spPr>
          <a:xfrm>
            <a:off x="393840" y="4221000"/>
            <a:ext cx="7511760" cy="18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vices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mation, réalisation de dessins et rendus réalistes en 2D et 3D, développements en régie/forfait, conseil en industrialisation de la fonction Etu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e l’ordre de 1/3 du 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3"/>
          <p:cNvSpPr/>
          <p:nvPr/>
        </p:nvSpPr>
        <p:spPr>
          <a:xfrm>
            <a:off x="4334040" y="30621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30"/>
          <p:cNvGrpSpPr/>
          <p:nvPr/>
        </p:nvGrpSpPr>
        <p:grpSpPr>
          <a:xfrm>
            <a:off x="2288880" y="115920"/>
            <a:ext cx="7616520" cy="1080360"/>
            <a:chOff x="2288880" y="115920"/>
            <a:chExt cx="7616520" cy="1080360"/>
          </a:xfrm>
        </p:grpSpPr>
        <p:sp>
          <p:nvSpPr>
            <p:cNvPr id="129" name="Rectangle 131"/>
            <p:cNvSpPr/>
            <p:nvPr/>
          </p:nvSpPr>
          <p:spPr>
            <a:xfrm rot="10800000">
              <a:off x="2831400" y="167040"/>
              <a:ext cx="7074000" cy="9831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132"/>
            <p:cNvGrpSpPr/>
            <p:nvPr/>
          </p:nvGrpSpPr>
          <p:grpSpPr>
            <a:xfrm>
              <a:off x="2288880" y="115920"/>
              <a:ext cx="7569720" cy="1080360"/>
              <a:chOff x="2288880" y="115920"/>
              <a:chExt cx="7569720" cy="1080360"/>
            </a:xfrm>
          </p:grpSpPr>
          <p:sp>
            <p:nvSpPr>
              <p:cNvPr id="131" name="Oval 133"/>
              <p:cNvSpPr/>
              <p:nvPr/>
            </p:nvSpPr>
            <p:spPr>
              <a:xfrm rot="10800000">
                <a:off x="2288880" y="169920"/>
                <a:ext cx="1114200" cy="98028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>
                <a:off x="2520360" y="115920"/>
                <a:ext cx="733824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Compréhension 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de votre contex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344520" y="6165720"/>
            <a:ext cx="92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Times New Roman"/>
              </a:rPr>
              <a:t>Préparer le plan de bataille, s’ar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816200" y="1600200"/>
            <a:ext cx="784224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Relancer la machine de guerre commerciale 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ugmentation du CA et m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oter l’équipe commerciale d’outils pour développer les 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Nécessité de changements…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4395960" y="3043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4038480" y="115920"/>
            <a:ext cx="5867280" cy="1080360"/>
            <a:chOff x="4038480" y="115920"/>
            <a:chExt cx="5867280" cy="1080360"/>
          </a:xfrm>
        </p:grpSpPr>
        <p:sp>
          <p:nvSpPr>
            <p:cNvPr id="137" name="Rectangle 17"/>
            <p:cNvSpPr/>
            <p:nvPr/>
          </p:nvSpPr>
          <p:spPr>
            <a:xfrm rot="10800000">
              <a:off x="4456080" y="167040"/>
              <a:ext cx="5449680" cy="9831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18"/>
            <p:cNvGrpSpPr/>
            <p:nvPr/>
          </p:nvGrpSpPr>
          <p:grpSpPr>
            <a:xfrm>
              <a:off x="4038480" y="115920"/>
              <a:ext cx="5830920" cy="1080360"/>
              <a:chOff x="4038480" y="115920"/>
              <a:chExt cx="5830920" cy="1080360"/>
            </a:xfrm>
          </p:grpSpPr>
          <p:sp>
            <p:nvSpPr>
              <p:cNvPr id="139" name="Oval 19"/>
              <p:cNvSpPr/>
              <p:nvPr/>
            </p:nvSpPr>
            <p:spPr>
              <a:xfrm rot="10800000">
                <a:off x="4038480" y="169920"/>
                <a:ext cx="858240" cy="98028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20"/>
              <p:cNvSpPr/>
              <p:nvPr/>
            </p:nvSpPr>
            <p:spPr>
              <a:xfrm>
                <a:off x="4216320" y="115920"/>
                <a:ext cx="565308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Axes visé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272880" y="6165720"/>
            <a:ext cx="93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Times New Roman"/>
              </a:rPr>
              <a:t>Augmenter l’efficacité de ses forces com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88880" y="1268280"/>
            <a:ext cx="7175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lques constats financie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Évolution du CA : autour de 300 k€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2013, forte croissance : investissements, marchés por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hase de stab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2013-2015 : -15 %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395960" y="3043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4457880" y="3086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828800" y="3429000"/>
            <a:ext cx="7732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lques constats sur l’équipe commercia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3 commerciaux (dont le responsable commer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partiel de l’équipe dirige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oyenne d’âge 32-33 ans, de formation technique,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u de méthodes com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1857240" y="115920"/>
            <a:ext cx="8048160" cy="1080360"/>
            <a:chOff x="1857240" y="115920"/>
            <a:chExt cx="8048160" cy="1080360"/>
          </a:xfrm>
        </p:grpSpPr>
        <p:sp>
          <p:nvSpPr>
            <p:cNvPr id="147" name="Rectangle 15"/>
            <p:cNvSpPr/>
            <p:nvPr/>
          </p:nvSpPr>
          <p:spPr>
            <a:xfrm rot="10800000">
              <a:off x="2430000" y="167040"/>
              <a:ext cx="7475400" cy="9831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Group 16"/>
            <p:cNvGrpSpPr/>
            <p:nvPr/>
          </p:nvGrpSpPr>
          <p:grpSpPr>
            <a:xfrm>
              <a:off x="1857240" y="115920"/>
              <a:ext cx="7998120" cy="1080360"/>
              <a:chOff x="1857240" y="115920"/>
              <a:chExt cx="7998120" cy="1080360"/>
            </a:xfrm>
          </p:grpSpPr>
          <p:sp>
            <p:nvSpPr>
              <p:cNvPr id="149" name="Oval 17"/>
              <p:cNvSpPr/>
              <p:nvPr/>
            </p:nvSpPr>
            <p:spPr>
              <a:xfrm rot="10800000">
                <a:off x="1857240" y="169920"/>
                <a:ext cx="1177200" cy="98028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18"/>
              <p:cNvSpPr/>
              <p:nvPr/>
            </p:nvSpPr>
            <p:spPr>
              <a:xfrm>
                <a:off x="2101320" y="115920"/>
                <a:ext cx="775404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Pré-diagnostic de la 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situation commercia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20840" y="2666880"/>
            <a:ext cx="7953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Optimiser la relation humaine de vos entretiens de 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« Comment vous le dit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77800" y="1447920"/>
            <a:ext cx="905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méliorer votre CA &gt; +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Par les techniques de 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3549600" y="222120"/>
            <a:ext cx="6355800" cy="792360"/>
            <a:chOff x="3549600" y="222120"/>
            <a:chExt cx="6355800" cy="792360"/>
          </a:xfrm>
        </p:grpSpPr>
        <p:sp>
          <p:nvSpPr>
            <p:cNvPr id="154" name="Rectangle 8"/>
            <p:cNvSpPr/>
            <p:nvPr/>
          </p:nvSpPr>
          <p:spPr>
            <a:xfrm rot="10800000">
              <a:off x="4001760" y="259920"/>
              <a:ext cx="5903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Group 9"/>
            <p:cNvGrpSpPr/>
            <p:nvPr/>
          </p:nvGrpSpPr>
          <p:grpSpPr>
            <a:xfrm>
              <a:off x="3549600" y="222120"/>
              <a:ext cx="6316920" cy="792360"/>
              <a:chOff x="3549600" y="222120"/>
              <a:chExt cx="6316920" cy="792360"/>
            </a:xfrm>
          </p:grpSpPr>
          <p:sp>
            <p:nvSpPr>
              <p:cNvPr id="156" name="Oval 10"/>
              <p:cNvSpPr/>
              <p:nvPr/>
            </p:nvSpPr>
            <p:spPr>
              <a:xfrm rot="10800000">
                <a:off x="3549600" y="261360"/>
                <a:ext cx="92952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11"/>
              <p:cNvSpPr/>
              <p:nvPr/>
            </p:nvSpPr>
            <p:spPr>
              <a:xfrm>
                <a:off x="3742560" y="222120"/>
                <a:ext cx="612396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000" spc="-1" strike="noStrike">
                    <a:solidFill>
                      <a:srgbClr val="ffcc00"/>
                    </a:solidFill>
                    <a:latin typeface="Times New Roman"/>
                    <a:ea typeface="Times New Roman"/>
                  </a:rPr>
                  <a:t>Nos apport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Rectangle 12"/>
          <p:cNvSpPr/>
          <p:nvPr/>
        </p:nvSpPr>
        <p:spPr>
          <a:xfrm>
            <a:off x="330120" y="6172200"/>
            <a:ext cx="92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Piloter les leviers de la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6:09:02Z</dcterms:created>
  <dc:creator>CRAYE</dc:creator>
  <dc:description/>
  <dc:language>en-US</dc:language>
  <cp:lastModifiedBy>lise beninca</cp:lastModifiedBy>
  <dcterms:modified xsi:type="dcterms:W3CDTF">2015-10-12T13:26:10Z</dcterms:modified>
  <cp:revision>258</cp:revision>
  <dc:subject/>
  <dc:title>TITRE</dc:title>
</cp:coreProperties>
</file>